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CE8-1F95-461C-A397-76217C2C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B99-A8AC-41BD-9335-9F513786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CF7E1-9426-48B5-9CF9-8A2411D8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7AC91-45D3-471A-B656-4CF93A16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585AC-5AF2-44E7-A2F1-75963A00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41691-4A06-49C3-8560-6D78D59B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4AF18-0634-4EB1-AF25-1E4B9B92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A1FE4-6904-48E1-A90F-89B7BD1C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AAA1F-BD38-4530-864A-334F36E6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2FCFF-4F30-457D-AB89-A876AD32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E0D81-A3A3-4C08-AB58-616487F8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227F8-08B1-406E-A7EC-7614EB4F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014-B53A-40A2-9E99-4115638F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0509B-9854-44E3-AA6D-E1BBACA7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52346-B053-4462-A2BF-FF7B762A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57E7-AA42-46A4-B8C6-6CED6600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81AEC-8AD4-4B6B-B5A3-20F3CAC5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74AF4-EB43-4647-9C3D-30111FD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A5F79-1DB4-4EEC-A976-DEF8D97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FBB57-7D5F-49C7-A751-81D8AD07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2D6E4-F27C-466E-AA33-5064283F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FF844-840A-4EB7-8636-3E79D318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C74E4-C5C5-4440-AC62-A9D35B97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823-FEDE-4D2E-A36D-8D77EBEB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51D03-F8E5-4709-8DD4-37F9EA2C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D3D20-1618-4F9D-B830-4AFAD752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06988-8DBA-4250-B032-98EADF31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DB5D3-B37D-4C0B-B0EB-66306289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74E7F-BD10-4FE2-9DD6-CE9237CA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6F685-0D54-47BF-B53D-904B8D54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24B1B-D8AF-45EF-995D-1764BEEF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33F37-38B1-44F0-9785-7473272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3F238-72CE-46DD-AF2F-04058EB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F1169-7235-4B48-B1AF-F078142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9F13-3A4F-404E-B84A-012339DB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3D53F-D692-4875-8B3B-6CA90BE5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D592D-DC00-40D8-80BB-EEEBE136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E31F7-E770-4544-B86F-6FC9D683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C842C-3314-4D1C-8512-E4980333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54264-C534-4DBC-8BDB-86D0033B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7AE13-BD7E-4EB0-A623-AAE2A3E6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7B411-E5FC-4434-846A-52DC9853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4CBDB-6954-47B1-8C82-85C8390A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84874-A273-49CE-8F34-A62CF39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38519-F2CA-420D-A498-59C4E8C9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74AD-2235-4829-8E2D-6705995D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2AEA1-27A6-40EC-9D4E-D4D5F6D5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4503C-1100-4E6D-9452-8D8E9E93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C09F8-6B20-4A90-8025-646492A3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CC601-8DCA-4AB9-8C00-775B871F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58EA4-84BC-4EF7-92B9-6EFA6EAA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31ADA-8034-4282-B9BB-89BF4A64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2042B-D1D9-4805-BB8B-80AC6846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FFE5B-AC57-430F-9445-2379798F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B2925-9F99-4D99-AA86-C5290254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1FF05-96C3-438F-9821-2F8407AA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EEAC-6094-44A2-8CA0-B764C0B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D465E-0951-4B46-B53C-0B1E3620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CE344-1FF3-421A-B26A-9E1A2705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91D39-945E-4B9B-8B23-8F8C76B4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EB0FA-015E-491B-8CC7-20F50E8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B9D2A-5B5D-4087-90A2-C666279D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9E529-565C-44E0-932D-124AC192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54380-3109-43E1-82A6-2B24B9A7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AE656-91AE-444D-AFF6-C97456D6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38111-3802-4880-8A59-6CE5E652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A405A-CE74-4F57-A9DB-E523DD4E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3F81-EBF3-4239-9441-ED79B7B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409AB-D4FD-4A08-A351-A014E685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82079-6EEF-429F-A877-1E27837D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88425-36DF-4247-BCA1-E86FDDB3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CDFD2-5415-4BF3-AD55-2B1A7C86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A5582-6F64-4E13-838F-309C5DE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5B55C-404C-4BA1-8CD8-3891AED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8B836-D1D4-4D47-AB81-DD57161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DB9E0-EE6E-42AD-BF12-65AA744D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47508-6AF1-4574-8E52-E318FF0A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F263B-6740-4255-B1A1-EAE48BB1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5B30-E915-4AF9-8A29-C250BEA1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7CCD0-1387-4828-B4E9-E5F09ED0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210F7-C3F1-4297-87B1-522BBB39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BB462-8447-4497-8E3A-DA4AEADE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6F16F-BDA9-4888-99DB-6FEA10C6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29A04-C27F-4FBC-9DCC-ABEBD9FC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98270-436B-4715-AE67-0AE9DAC1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D5139-C0E3-42D1-A123-89C9FB57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0490B-41EB-499C-ABCB-DE5DA2F8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11782-3F42-4871-A4CD-C3C2A293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06C0A-8D31-4AC0-B893-BC5C38AE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2219-E183-4B59-92F2-3DFA6415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3CBD6-C1D6-400C-8185-2E81F000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762D1-ABF8-4AA3-927B-EEEFE8B9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B8D68-57C6-4689-A94F-A982D121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E9EE4-33E6-4485-962F-F7405BF2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2E1CB-850D-40B7-9680-0F0631C6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D85D5-EB49-4B79-A3A0-1EC5124D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2E9D0-3F7B-4D07-9F80-345EEBD2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84EA0-CC06-44F2-9A59-FA94F67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9360D-8FAD-4822-8A0F-58D56DF1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99178-CDD3-4CC2-907E-36EB7422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401E-6768-49CC-88E8-7E4BD42B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EB642-6BEC-4D43-A465-BCCD02B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8B1C5-23EF-4038-B202-991C9B73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B3F69-97A3-4807-9572-BA232351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2B1-ECF4-4071-98A9-4AEF45BC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724C-E167-437A-A8EA-0743A012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90E4-85EF-49C5-A693-DA755400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01A7-BE89-4A98-84B4-9178F555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CDA7-F56A-4F26-8299-E2B7EB66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2A20-B1FE-4EB5-BDDE-FE13F8C4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FEB8-2547-4323-B679-D5F1A767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9B4A-FCB4-4D45-9C34-6DDFFBEC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113F-EEE6-4D0F-998E-5F2FDC4A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5865-12D7-439B-98B8-E1AA6E99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5B84-1532-49CE-8FE8-4CCE919B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CDE-C7F7-4EAB-8C84-B4176B10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C147-327B-4B50-B2D3-CE3F3EE8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9A638-FCE9-435A-8F1A-D746C09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664E-3105-449F-B1D9-1EA4452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AD0E-1D52-40E3-9A04-BEE87EC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9DA1-D442-4743-8BB3-712B6A93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2877-BE56-41FE-BCF4-40E38324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67D2-E475-4161-A90B-0CD0D0BA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CC00-6242-4AC3-8B79-C1745EB3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C95E-77B0-4980-BAEC-FFF2925B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86E6-49EC-4E3A-9D2F-57BDC6D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C86-1CE3-4BBD-8303-13E9D2CE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7D13-57FC-4372-A3EE-485AD142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B04E-4499-407E-81AD-9193F25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E12B-6160-4BFC-9894-2BE94C93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81873-9A2D-4994-8978-3C363720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65787-4F4A-4C86-A4D7-56FF602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96B3D-370D-47C9-9C80-68F07D3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9DDE-2D8C-4888-AB55-23A108E9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CEEF4-FEBE-4CFB-A06B-A8E68ECC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B247-3CD1-4B73-BD74-60B8EA92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29B1E-1293-46F4-9554-08AEEB1A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662-3260-466B-9A85-DC90471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A7E8-524C-430D-823E-8A7BE4E4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20BE1-8F25-40B6-AA56-838E1126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6850-468A-4F82-AB6A-328B2335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00DAD-C761-4E8F-96D7-6F933EB8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11962-5485-4429-920A-4EFB29AB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3B2B-C04E-4223-9B60-2F2F3857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BA9F3-3EBC-4DEE-AB3E-AE3D94E3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BA0E1-B990-48CD-84B7-6093E8D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A54F-E22D-4F91-B235-049A81B6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24AC8-1FE7-49F2-A8E1-34360C18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714-CCEC-447C-A502-16A76033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4292-779D-4491-AD55-860AAA51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1BBB8-C922-4679-BE49-DE9C0B12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48B15-A480-4D6B-98BA-AF4EA396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9167-7575-4716-BD33-9E8D0E11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A919-13CD-4FA6-AD28-99185241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BA475-3854-4CB2-8652-58C01A27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1D31B-C626-4F0B-8E1F-083AFEF3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76F3C-1951-4403-B1C4-B9DED2E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1DDA4-741E-4C59-99BB-CAF5CF03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9B0FB-370C-48F6-8E2F-31093FF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309-D0A4-4F36-92E2-D007B1A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24958-A125-4B47-AC0D-35F652BF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5AE23-84A8-4C15-8885-DE6529E7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DA19B-3919-4719-A61B-B8550526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AA448-562F-4D78-90C7-0DCC4FA1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A12A9-D8FC-404F-B122-808A6B1A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62C80-044C-45BB-9E26-C0A2AE79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63A2-A71C-42A1-A1F0-B1C24DBE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39098-11A6-4656-B8E6-D4EE22DD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BABAE-1314-4ACA-8E13-CF126098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07FFF-F684-4E64-9DF3-02F1C8B1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44B-772F-44F1-B3B5-E9740BCA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D487E-7365-41BC-9E88-F3271B00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BAB52-FAF1-4498-9A91-A7B9FEAD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1E61B-BD0A-45A6-975C-84E6B756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F677-B669-4CAA-8CC1-F29F0E77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28E79-8554-4611-A5FF-AD3562A7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3836-5351-492C-8228-392F4AFA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510F6-C0CC-4E5E-B2E0-A188C329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504FB-A3CC-4E0A-87BE-C6EF8353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5FFF3-A885-4D9F-8855-761B8B59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8494-FB1A-4429-A773-2459BEA5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785-FC60-42B2-9455-31F8209A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26B73-F6BA-40B6-8D95-92263930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85A5-E3DB-40AC-93CC-A597E09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BF1A9-CB60-4BF8-B4FE-82EC2907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68211-9004-4370-AF69-28B9337B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3B67D-5679-4E13-B5E0-A8BE4A4B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F3D6C-F3D7-46A2-87C9-E51339B7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406CD-BD65-460B-94DA-94130F68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63FB3-1519-4126-A48D-47913552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2C2AA-29F0-4317-8B54-90E1483C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36DF6-5E1F-467C-AA22-56969028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6BC5-0957-4276-81EE-F801ECD6CE7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C4E5-2D1A-4C43-B73D-F9476B4D0D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5600-016C-4B43-A6C6-7DF603795DC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631B-1FB8-4BFD-A9AE-C98136299B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8609-B5E9-43CE-AE1C-594E5D3DCF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1FEF-A192-4724-8349-48FEC50874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F49F-9E03-455B-9668-6421C4F5D8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9456-A837-4589-8F7D-618B653644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7B9C-E0F7-4DB9-A323-C0E607E4B80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CBE-33CB-4A15-A1DD-021CD35C3B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21C7-7E49-4646-9319-8977790612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7325-2EA6-401C-BC83-B8EC7D1E36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271E-46AD-4128-9251-5AE57E60D5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0C37-B9B5-4541-9E0F-B00C326ADFF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3DBA-AD55-4CFE-8F28-1ECE58B8D28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8186-86FA-419F-918B-8D319B5FB20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bionet-skola.com/w/Slika:Osmozaieritrociti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1"/>
          <a:stretch/>
        </p:blipFill>
        <p:spPr>
          <a:xfrm>
            <a:off x="-1620720" y="1127160"/>
            <a:ext cx="8564400" cy="1920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" descr="Animal Cells and the Membrane-Bound Nucleus"/>
          <p:cNvPicPr/>
          <p:nvPr/>
        </p:nvPicPr>
        <p:blipFill>
          <a:blip r:embed="rId2"/>
          <a:stretch/>
        </p:blipFill>
        <p:spPr>
          <a:xfrm>
            <a:off x="2556000" y="313056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vi-VN" sz="5000" spc="-1" strike="noStrike">
                <a:solidFill>
                  <a:srgbClr val="04617b"/>
                </a:solidFill>
                <a:latin typeface="Arial"/>
              </a:rPr>
              <a:t>Pro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0" y="1916280"/>
            <a:ext cx="4284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differentiated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umber of organel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ibosomes)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3" name="Picture 6" descr="Prokaryotic Cell: Definition, Examples, &amp; Structure"/>
          <p:cNvPicPr/>
          <p:nvPr/>
        </p:nvPicPr>
        <p:blipFill>
          <a:blip r:embed="rId1"/>
          <a:stretch/>
        </p:blipFill>
        <p:spPr>
          <a:xfrm>
            <a:off x="4235400" y="1700280"/>
            <a:ext cx="4692600" cy="4332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Eu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79280" y="1557360"/>
            <a:ext cx="66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5" descr="Prokaryotic Cell - Definition, Examples &amp; Structure | Biology Dictionary"/>
          <p:cNvPicPr/>
          <p:nvPr/>
        </p:nvPicPr>
        <p:blipFill>
          <a:blip r:embed="rId1"/>
          <a:stretch/>
        </p:blipFill>
        <p:spPr>
          <a:xfrm>
            <a:off x="4284720" y="2276640"/>
            <a:ext cx="46101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AND PLANT CE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5229360"/>
            <a:ext cx="5148360" cy="13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elles pres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ly in a plan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9" name="Picture 7" descr="Plant vs. Animal Cells | Biology Dictionary"/>
          <p:cNvPicPr/>
          <p:nvPr/>
        </p:nvPicPr>
        <p:blipFill>
          <a:blip r:embed="rId1"/>
          <a:stretch/>
        </p:blipFill>
        <p:spPr>
          <a:xfrm>
            <a:off x="611280" y="1125360"/>
            <a:ext cx="7794360" cy="378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811" name="Picture 5" descr="Cell Membrane Structure and Function - YouTube"/>
          <p:cNvPicPr/>
          <p:nvPr/>
        </p:nvPicPr>
        <p:blipFill>
          <a:blip r:embed="rId1"/>
          <a:stretch/>
        </p:blipFill>
        <p:spPr>
          <a:xfrm>
            <a:off x="539640" y="1989000"/>
            <a:ext cx="738036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pi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8000" y="1935000"/>
            <a:ext cx="56260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rane conta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pho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have 2 part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(polar) – hydrophil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 (non-polar) –hydrophob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facing each other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hydrophobic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Glycolip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holeste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24000" y="5805360"/>
            <a:ext cx="770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and proteins are constantly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7" descr="4.7: Eukaryotic Cells - The Plasma Membrane and the Cytoplasm - Biology  LibreTexts"/>
          <p:cNvPicPr/>
          <p:nvPr/>
        </p:nvPicPr>
        <p:blipFill>
          <a:blip r:embed="rId1"/>
          <a:stretch/>
        </p:blipFill>
        <p:spPr>
          <a:xfrm>
            <a:off x="5076720" y="2421000"/>
            <a:ext cx="4067280" cy="27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teins</a:t>
            </a:r>
            <a:br>
              <a:rPr sz="32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and channels - participate in the transport of molecules through the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18" name="Picture 6" descr="Protein Function | Learn Science at Scitable"/>
          <p:cNvPicPr/>
          <p:nvPr/>
        </p:nvPicPr>
        <p:blipFill>
          <a:blip r:embed="rId1"/>
          <a:stretch/>
        </p:blipFill>
        <p:spPr>
          <a:xfrm>
            <a:off x="755640" y="4221000"/>
            <a:ext cx="7989840" cy="263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Membrane transport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9640" y="246852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ssive transport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out energy consumption, due to the difference in concentration on one and the other side of the membr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ve transpor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 energy, against the concentration grad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a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630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imple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through the membrane down the concentration gradient, until the concentrations are equalized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stances soluble in lipids, gas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Osmosi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diffusion of water through the membrane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posite to the concentration gradient (from lower to highe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Facilitated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of molecules through the membrane using carrier protein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glucose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regulated by hormones (glucose-insulin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4" name="Picture 3" descr="300px-400px-Diffusion"/>
          <p:cNvPicPr/>
          <p:nvPr/>
        </p:nvPicPr>
        <p:blipFill>
          <a:blip r:embed="rId1">
            <a:lum contrast="60000"/>
          </a:blip>
          <a:srcRect l="0" t="0" r="0" b="19612"/>
          <a:stretch/>
        </p:blipFill>
        <p:spPr>
          <a:xfrm>
            <a:off x="6227640" y="1484280"/>
            <a:ext cx="2627280" cy="1152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300px-Osmozaieritrociti">
            <a:hlinkClick r:id="rId2"/>
          </p:cNvPr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248520" y="3068640"/>
            <a:ext cx="2895480" cy="15145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" descr="GB1-os19"/>
          <p:cNvPicPr/>
          <p:nvPr/>
        </p:nvPicPr>
        <p:blipFill>
          <a:blip r:embed="rId4">
            <a:lum contrast="6000"/>
          </a:blip>
          <a:srcRect l="0" t="21758" r="0" b="12803"/>
          <a:stretch/>
        </p:blipFill>
        <p:spPr>
          <a:xfrm>
            <a:off x="6180120" y="5281560"/>
            <a:ext cx="2963880" cy="157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53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dium-potassium pu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active transport of molecu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part with the lower to the part with the higher con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arrier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of energy (AT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7" descr="Sodium-Potassium pump which uses ATP to pump sodium ions out of the... |  Download Scientific Diagram"/>
          <p:cNvPicPr/>
          <p:nvPr/>
        </p:nvPicPr>
        <p:blipFill>
          <a:blip r:embed="rId1"/>
          <a:stretch/>
        </p:blipFill>
        <p:spPr>
          <a:xfrm>
            <a:off x="4716360" y="2133720"/>
            <a:ext cx="417672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ransport of large molecul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78120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d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hagocytosis, pinocytosis) - bringing molecules into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emoving of undigested substances from the cell into the external environ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3" name="Picture 19" descr="image007"/>
          <p:cNvPicPr/>
          <p:nvPr/>
        </p:nvPicPr>
        <p:blipFill>
          <a:blip r:embed="rId1"/>
          <a:stretch/>
        </p:blipFill>
        <p:spPr>
          <a:xfrm>
            <a:off x="6372360" y="260280"/>
            <a:ext cx="2771640" cy="20829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4" descr="imag-endocistosis"/>
          <p:cNvPicPr/>
          <p:nvPr/>
        </p:nvPicPr>
        <p:blipFill>
          <a:blip r:embed="rId2"/>
          <a:stretch/>
        </p:blipFill>
        <p:spPr>
          <a:xfrm>
            <a:off x="6516720" y="4230720"/>
            <a:ext cx="2363760" cy="262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asic structur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all living organism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mallest function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can perform all life proces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s the interior of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art of the cytoplasm in which they are locatedcell organelles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YTOSOL + ORGANELES = CYTOPLA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7" name="Picture 5" descr="Cell parts and their functions | Cells and organisms | Middle school  biology | Khan Academy - YouTube"/>
          <p:cNvPicPr/>
          <p:nvPr/>
        </p:nvPicPr>
        <p:blipFill>
          <a:blip r:embed="rId1"/>
          <a:stretch/>
        </p:blipFill>
        <p:spPr>
          <a:xfrm>
            <a:off x="2685960" y="4437000"/>
            <a:ext cx="4046760" cy="227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Rectangle 2"/>
          <p:cNvSpPr/>
          <p:nvPr/>
        </p:nvSpPr>
        <p:spPr>
          <a:xfrm>
            <a:off x="250920" y="4581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s of eukaryotes (80S) consist of 2 subun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(60S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(4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0" y="1700280"/>
            <a:ext cx="608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ole in protein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in the cytoplas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outer nuclear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membrane of the granular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7" descr="Structure Eukaryotic Ribosome 80S Ribosome Showing Smaller and Larger  Subunit Stock Illustration - Illustration of microscopic, anatomy: 200726002"/>
          <p:cNvPicPr/>
          <p:nvPr/>
        </p:nvPicPr>
        <p:blipFill>
          <a:blip r:embed="rId1"/>
          <a:srcRect l="0" t="-1313" r="0" b="29713"/>
          <a:stretch/>
        </p:blipFill>
        <p:spPr>
          <a:xfrm>
            <a:off x="5003640" y="3862440"/>
            <a:ext cx="3961080" cy="2995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PLASMATIC RETICULUME - 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843" name="Object 3"/>
          <p:cNvGraphicFramePr/>
          <p:nvPr/>
        </p:nvGraphicFramePr>
        <p:xfrm>
          <a:off x="2050920" y="3068640"/>
          <a:ext cx="31528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31528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Rectangle 3"/>
          <p:cNvSpPr/>
          <p:nvPr/>
        </p:nvSpPr>
        <p:spPr>
          <a:xfrm>
            <a:off x="108000" y="1557360"/>
            <a:ext cx="345600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uge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s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5364000" y="1413000"/>
            <a:ext cx="352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Smooth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 Е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, without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synthesis of lipids and steroid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nected to the 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s a role in regulating the level of Ca in muscl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49636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4900" spc="-1" strike="noStrike">
                <a:solidFill>
                  <a:srgbClr val="000000"/>
                </a:solidFill>
                <a:latin typeface="Arial"/>
              </a:rPr>
              <a:t>olgi apparatu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24000" y="2133720"/>
            <a:ext cx="806436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ory 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eveloped in glandula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f membranes – cis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role in the modification and sorting of macromolec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2" descr="Molecular Expressions Cell Biology: The Golgi Apparatus"/>
          <p:cNvPicPr/>
          <p:nvPr/>
        </p:nvPicPr>
        <p:blipFill>
          <a:blip r:embed="rId1"/>
          <a:stretch/>
        </p:blipFill>
        <p:spPr>
          <a:xfrm>
            <a:off x="5888160" y="1700280"/>
            <a:ext cx="325584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0" y="2468520"/>
            <a:ext cx="44276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el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vel of 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ther substances 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395280" y="1484280"/>
            <a:ext cx="3728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7" descr="Mitochondria: Form, function, and disease"/>
          <p:cNvPicPr/>
          <p:nvPr/>
        </p:nvPicPr>
        <p:blipFill>
          <a:blip r:embed="rId1"/>
          <a:stretch/>
        </p:blipFill>
        <p:spPr>
          <a:xfrm>
            <a:off x="4211640" y="1695600"/>
            <a:ext cx="4932360" cy="373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ucle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363640" y="2060640"/>
            <a:ext cx="4038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plas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romat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cle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59" name="Picture 6" descr="Nucleus- Definition, Structure, Parts, Functions, Diagram"/>
          <p:cNvPicPr/>
          <p:nvPr/>
        </p:nvPicPr>
        <p:blipFill>
          <a:blip r:embed="rId1"/>
          <a:stretch/>
        </p:blipFill>
        <p:spPr>
          <a:xfrm>
            <a:off x="179280" y="1825560"/>
            <a:ext cx="5073840" cy="4105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210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elles present only in a plant cel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lipoprotein membrane and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 and circular DNA in the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 би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 chlor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hlorophyll- participate in photosynthes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 chrom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arotenoids, yellow and orange pigments- they give color to the leaves in autum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cca62"/>
                </a:solidFill>
                <a:latin typeface="Arial"/>
              </a:rPr>
              <a:t>3. leuk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thout pigment- synthesize starch, fats,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3" name="Picture 6" descr="Plastids - Definition, Classification, Structure, Functions - GeeksforGeeks"/>
          <p:cNvPicPr/>
          <p:nvPr/>
        </p:nvPicPr>
        <p:blipFill>
          <a:blip r:embed="rId1"/>
          <a:stretch/>
        </p:blipFill>
        <p:spPr>
          <a:xfrm>
            <a:off x="5580000" y="836640"/>
            <a:ext cx="3203640" cy="19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321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ole membrane – tonopl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sites of various metabol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ntain dissolved pig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6" name="Picture 6" descr="Molecular Expressions Cell Biology: Plant Cell Structure - Vacuoles"/>
          <p:cNvPicPr/>
          <p:nvPr/>
        </p:nvPicPr>
        <p:blipFill>
          <a:blip r:embed="rId1"/>
          <a:stretch/>
        </p:blipFill>
        <p:spPr>
          <a:xfrm>
            <a:off x="4606920" y="1773360"/>
            <a:ext cx="4537080" cy="418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8000" y="234900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lamella (intercellular substan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wall (cellulos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wall (when the cell stops growing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9" name="Picture 6" descr="Cell Wall - Definition, Cell Wall Function, Cell Wall Layers"/>
          <p:cNvPicPr/>
          <p:nvPr/>
        </p:nvPicPr>
        <p:blipFill>
          <a:blip r:embed="rId1"/>
          <a:stretch/>
        </p:blipFill>
        <p:spPr>
          <a:xfrm>
            <a:off x="539640" y="4714920"/>
            <a:ext cx="4287960" cy="21430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8" descr="Cell Wall: Definition, Structure, &amp; Functions with Diagram"/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THEORY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rganism is made up of one or more cell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the basic units of an organism's structure and func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created by the division of mother cel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ersity of the cells of an organism is the result of differences in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organiz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structure of the cel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lements in the cell - biogenic element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elements (O, C, H, 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elements (Fe, Mn, Cu...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Inorganic compoun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792" name="Picture 4" descr="mini-2"/>
          <p:cNvPicPr/>
          <p:nvPr/>
        </p:nvPicPr>
        <p:blipFill>
          <a:blip r:embed="rId1"/>
          <a:stretch/>
        </p:blipFill>
        <p:spPr>
          <a:xfrm>
            <a:off x="9058320" y="38228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main component, makes up 50-95% of the cell's weight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water in the cell depends 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ctivities of the cell (tooth dentin 10% water) an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water is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solv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environment for metabolic reaction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regulation and osmoregulation</a:t>
            </a: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organic sal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ons (chlorides, carbonates, phosphate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ions (K+, Na+, Ca2+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oluble precipitates in the cel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Organic compou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39640" y="263664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bohydrates [sugar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pids [fat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ic acids [DNA and RNA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types of cel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mplexity of the structure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76000" y="2923920"/>
            <a:ext cx="648972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4:06:49Z</dcterms:created>
  <dc:creator>User</dc:creator>
  <dc:description/>
  <dc:language>en-US</dc:language>
  <cp:lastModifiedBy>Korisnik</cp:lastModifiedBy>
  <dcterms:modified xsi:type="dcterms:W3CDTF">2022-10-03T12:45:18Z</dcterms:modified>
  <cp:revision>108</cp:revision>
  <dc:subject/>
  <dc:title>ĆELIJA</dc:title>
</cp:coreProperties>
</file>